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81F4F-7553-4D26-A8BE-BBBCB595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E5DEF-27BC-4CCF-B8CC-9703D42A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21FDE-4506-4FBF-AE4F-878D93F6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BDB13-6FEF-4137-8C5E-10866F5F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6700-1003-480B-8F1C-9E439FB7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B82B-2A59-449B-BB31-197757D3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71CB-AA5E-46B7-8012-99762545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6320-6944-49B8-B963-A300910D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9C41-1923-40A5-AB6B-615F5260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22D3-23D9-403E-ABDE-36A1B0BB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524D-C852-4A1C-9751-9D6962CB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361D2-8704-44FF-9721-1C72A7FF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54F8-2B54-414B-AF97-3D67F2F0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CA40-F98C-455E-9271-DDCABEE5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328B-DADE-45A2-B13D-B958A3E6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65B6-0D4C-4AA8-94D5-9B44ECAC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F183-D6DF-4B0E-A798-A9848A27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5ACF-BC12-4FAA-BCF4-D20358DF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8A4E0-AC25-41D9-8C52-4B96A0B8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E1FE5-2800-4AD6-B00E-702F5F04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EF4AE-8F4B-4F38-8FA2-0A6749D5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ECD91-D229-46DF-BEAF-795A8964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EAD48-5E72-46CA-A073-668FC8BA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C6BC2-4061-4BB8-BBC4-A824C22C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EDB5-7CB0-428D-8F01-B059F8B8DC3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DE1E-816D-4619-A077-F48269E62A4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655200"/>
            <a:ext cx="11279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7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950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всевечни Душе Свет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живота извор С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в сърца ни с грях засет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жива вяра възкрес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64600" y="2153520"/>
            <a:ext cx="8578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кръбен ден ни утешава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е гасне духът наш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радост светла ни дарява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ожд бъди ни всяког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55560" y="1777680"/>
            <a:ext cx="791712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бясни ни Свойто слово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да ходим в светъл друм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дари ни с чувство ново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братска обич, светъл у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90320" y="1777680"/>
            <a:ext cx="82476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вори днес Твойте двер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небесна благодат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еди ни в сияйни сфер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то всеки бива бра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8-07T09:07:24Z</dcterms:modified>
  <cp:revision>9</cp:revision>
  <dc:subject/>
  <dc:title>Slide 1</dc:title>
</cp:coreProperties>
</file>